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797C-C1F1-43FC-AF00-6548F1806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8F5E-4268-4990-A635-E2C88BC7C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7CE-8E7D-4E6F-AD8A-44FC103721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Hill Street Blues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: Gritty, tough police dr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continued with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NYPD Bl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A91E-762E-4ABA-95BC-A522573528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pranos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beat many broadcast show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A3B2-7A78-4E58-865B-F9AC853346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554A-4ABC-4794-8FDB-20D8317FCB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Soap operas: Dying out as audience shr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Quiz/game sh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Highly pop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Twenty-One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scandal: The contest was rig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Talk sh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Inexpensive to 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Nighttime game sh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Surviv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Who Wants to Be a Millionai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The Weakest L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b7ecff"/>
                </a:solidFill>
                <a:latin typeface="Calibri"/>
              </a:rPr>
              <a:t>Wheel of For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BACC-B339-426E-87E3-BCED6AD0E2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Blockbusters: Super Bowl, World Cup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Inno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- Instant re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- Poker as </a:t>
            </a:r>
            <a:r>
              <a:rPr b="0" lang="ja-JP" sz="1200" spc="-1" strike="noStrike">
                <a:solidFill>
                  <a:srgbClr val="b7ec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sport</a:t>
            </a:r>
            <a:r>
              <a:rPr b="0" lang="ja-JP" sz="1200" spc="-1" strike="noStrike">
                <a:solidFill>
                  <a:srgbClr val="b7ecff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4FC6-011E-411A-BA34-43117779BB8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Reality TV: Survivor, Big Brother, American Idol—traces back to Truth or Consequences, Candid Camera, COPS, America</a:t>
            </a:r>
            <a:r>
              <a:rPr b="0" lang="ja-JP" sz="1200" spc="-1" strike="noStrike">
                <a:solidFill>
                  <a:srgbClr val="b7ecff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b7ecff"/>
                </a:solidFill>
                <a:latin typeface="Calibri"/>
              </a:rPr>
              <a:t>s Funniest Home Video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2DB2-3EFD-4DE5-B3B3-6B15CC66D5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3EE6-DE75-460D-B644-8272F87DF0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50F1-BA81-4CF0-8AED-F107D711F2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5F08-3C62-4677-98B0-CAED5F14569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4E5C-2390-42CC-94E3-19A9A9B35C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054-F257-4D7A-8BF2-534C879D7E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D147-F950-4384-A9FB-6F57E57F9C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47F3-E977-4894-80D7-1124CD2BA3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5F14-3E88-4738-8FBF-114D5CC619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4720-11E1-4B07-BB0D-8A9A6DD145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891F-6E70-43C9-B4AA-C1578C6240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D633-B8EE-4D43-92F4-8AD08801A25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115C-20C1-45A2-BB28-CA311B5BA8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DE79-D9DF-4D56-ABA2-4585958B0E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0F27-E552-44C1-BB1E-05C1E1766B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A07B-B4BC-427F-82E5-204802A25DC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4DDF-B60B-4A42-B1E7-7F0D65253E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1555-4C36-400D-ADF1-1798791BB7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B8D5-293A-4EE7-A067-9D07917BD0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8C63-8A62-441B-B51C-14E22AF5F4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7835-6474-4947-B1BE-C6C0822CD1A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it acceptable, do you feel you can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ter ou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violence from any influence it might have on your life or your view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EBFE-5377-413C-88BB-018DD6C6B78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A357-9AA2-4C2A-BC68-86918A8D2E7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58E7-D80D-4B9A-A614-7B5F035322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9184-2448-44BC-B0BF-5CBAEC926BB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alibri"/>
              </a:rPr>
              <a:t>Combat as entertainment (gladiators, animal figh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999A-D338-4696-ADC4-6F76243593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ly multiplayer online role-playing games (MMORPG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F6D2-75F3-4B2E-9800-EFCBCBBFE1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66f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Golden age of television</a:t>
            </a:r>
            <a:r>
              <a:rPr b="0" lang="ja-JP" sz="1200" spc="-1" strike="noStrike">
                <a:solidFill>
                  <a:srgbClr val="cc66ff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: 1940s through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cc66ff"/>
                </a:solidFill>
                <a:latin typeface="Calibri"/>
              </a:rPr>
              <a:t>Ed Sullivan S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cc66ff"/>
                </a:solidFill>
                <a:latin typeface="Calibri"/>
              </a:rPr>
              <a:t>The Honeymoo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cc66ff"/>
                </a:solidFill>
                <a:latin typeface="Calibri"/>
              </a:rPr>
              <a:t>The Twilight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i="1" lang="en-US" sz="1200" spc="-1" strike="noStrike">
                <a:solidFill>
                  <a:srgbClr val="cc66ff"/>
                </a:solidFill>
                <a:latin typeface="Calibri"/>
              </a:rPr>
              <a:t>I Love Lu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CB72-2AA9-4C8A-AEC3-6581F84DA4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738D-3366-41F3-B29F-030B799296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AA7-C838-4F8B-ABA8-24A5F13A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A28-6E72-4DB1-9C6E-EC2966CA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426-AEC4-4602-A4C8-76718750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EA96-F794-4254-B35D-7CF1D811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9BDB-8485-4062-B9B4-555CC3EF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6CBC-9D34-49E4-ACD0-D8FC4870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AA45-FCB5-4320-A014-D0B33A17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CDF2-F0EE-44F4-B4E8-ACFDE744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2F53-9D1C-4886-8C9B-5179836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47AD-D220-458E-9825-8641C4E0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3C3D-09A9-4A34-86DC-81646F4C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8FF-88AA-487D-8D00-C89BFB33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20CE-C6D8-49C9-AE9F-59272087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E8AD-B809-44B9-A48B-E5666E8B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E501-37FE-4C56-AE10-7285F370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35B8-76E2-4C39-ADA3-BBD536B5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1284-FB0C-46C7-A8E2-CF699B4F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064-3129-45F4-A597-AD08B427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3A9-F0A8-41F8-84A0-671C127A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533-0A54-4678-B0F5-211309C8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428-3312-43A9-A0D5-800F2993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3D7-B140-4A7C-AAA0-F11FD7EB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1EE-349C-4E48-9AB7-73A8994A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E15-9614-4AD2-A046-7D988F31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903D-E471-4473-813C-970D3C342E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4A80-DA99-4126-98E4-7F710AF19A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cff"/>
                </a:solidFill>
                <a:latin typeface="Tahoma"/>
              </a:rPr>
              <a:t>Entertai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ise of C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1295280" y="1752480"/>
            <a:ext cx="731520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Gritty, tough police dram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MTV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Music video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Real World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Jackas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The Osbourne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ble Comes of 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295280" y="1752480"/>
            <a:ext cx="731520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HB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2002: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The Sopranos 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becomes the most watched show in HBO history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Six Feet Under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38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i="1" lang="en-US" sz="3800" spc="-1" strike="noStrike">
                <a:solidFill>
                  <a:srgbClr val="b7ecff"/>
                </a:solidFill>
                <a:latin typeface="Tahoma"/>
              </a:rPr>
              <a:t>Sex and the City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1"/>
          <p:cNvSpPr/>
          <p:nvPr/>
        </p:nvSpPr>
        <p:spPr>
          <a:xfrm>
            <a:off x="1219320" y="60948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ublic Service Broad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1295280" y="1752480"/>
            <a:ext cx="731520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Public Broadcasting Service (PBS) launched </a:t>
            </a:r>
            <a:r>
              <a:rPr b="0" i="1" lang="en-US" sz="3800" spc="-1" strike="noStrike">
                <a:solidFill>
                  <a:srgbClr val="ff6fcf"/>
                </a:solidFill>
                <a:latin typeface="Tahoma"/>
              </a:rPr>
              <a:t>Sesame Street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 in 1969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Award-winning program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Based on BBC model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800" spc="-1" strike="noStrike">
                <a:solidFill>
                  <a:srgbClr val="ff6fcf"/>
                </a:solidFill>
                <a:latin typeface="Tahoma"/>
              </a:rPr>
              <a:t>Threatened by governmental oversight and cutback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Program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1295280" y="1752480"/>
            <a:ext cx="731520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Soap operas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Quiz/game shows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Talk shows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5700" spc="-1" strike="noStrike">
                <a:solidFill>
                  <a:srgbClr val="b7ecff"/>
                </a:solidFill>
                <a:latin typeface="Tahoma"/>
              </a:rPr>
              <a:t>Nighttime game shows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Program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1295280" y="1752480"/>
            <a:ext cx="7315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Sport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Blockbuster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Innov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Program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295280" y="1752480"/>
            <a:ext cx="73152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Reality TV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User-generated conten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— </a:t>
            </a:r>
            <a:r>
              <a:rPr b="0" lang="ja-JP" sz="6000" spc="-1" strike="noStrike">
                <a:solidFill>
                  <a:srgbClr val="b7ecff"/>
                </a:solidFill>
                <a:latin typeface="Tahoma"/>
              </a:rPr>
              <a:t>“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Reality</a:t>
            </a:r>
            <a:r>
              <a:rPr b="0" lang="ja-JP" sz="6000" spc="-1" strike="noStrike">
                <a:solidFill>
                  <a:srgbClr val="b7ecff"/>
                </a:solidFill>
                <a:latin typeface="Tahoma"/>
              </a:rPr>
              <a:t>”</a:t>
            </a:r>
            <a:r>
              <a:rPr b="0" lang="en-US" sz="6000" spc="-1" strike="noStrike">
                <a:solidFill>
                  <a:srgbClr val="b7ec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1"/>
          <p:cNvSpPr/>
          <p:nvPr/>
        </p:nvSpPr>
        <p:spPr>
          <a:xfrm>
            <a:off x="1219320" y="609480"/>
            <a:ext cx="7238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1295280" y="1752480"/>
            <a:ext cx="7315200" cy="47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Still strong despite television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Provide social experience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Movies on television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900" spc="-1" strike="noStrike">
                <a:solidFill>
                  <a:srgbClr val="ff6fcf"/>
                </a:solidFill>
                <a:latin typeface="Tahoma"/>
              </a:rPr>
              <a:t>Created from original scripts, books, television programs, games, etc.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295280" y="1752480"/>
            <a:ext cx="73152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Movie mogul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Warner brother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Walt Disney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Samuel Goldwyn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Marcus Loew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100" spc="-1" strike="noStrike">
                <a:solidFill>
                  <a:srgbClr val="ff6fcf"/>
                </a:solidFill>
                <a:latin typeface="Tahoma"/>
              </a:rPr>
              <a:t>Louis B. Mayer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295280" y="1752480"/>
            <a:ext cx="73152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Film genr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Action/adventur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Comedy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Romanc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Science fictio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Suspense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3500" spc="-1" strike="noStrike">
                <a:solidFill>
                  <a:srgbClr val="ff6fcf"/>
                </a:solidFill>
                <a:latin typeface="Tahoma"/>
              </a:rPr>
              <a:t>Other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295280" y="1752480"/>
            <a:ext cx="73152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Technological influences on film genre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Special effect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Animation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DVDs, videotape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4200" spc="-1" strike="noStrike">
                <a:solidFill>
                  <a:srgbClr val="ff6fcf"/>
                </a:solidFill>
                <a:latin typeface="Tahoma"/>
              </a:rPr>
              <a:t>Netflix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8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99072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66ffcc"/>
                </a:solidFill>
                <a:latin typeface="Tahoma"/>
              </a:rPr>
              <a:t>Guitar Hero </a:t>
            </a: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was a huge hit … until it wasn</a:t>
            </a:r>
            <a:r>
              <a:rPr b="0" lang="ja-JP" sz="7200" spc="-1" strike="noStrike">
                <a:solidFill>
                  <a:srgbClr val="66ffcc"/>
                </a:solidFill>
                <a:latin typeface="Tahoma"/>
              </a:rPr>
              <a:t>’</a:t>
            </a: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t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deo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1295280" y="1752480"/>
            <a:ext cx="731520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PlayStation, Wii, Xbox, etc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MMOG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Mod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Game-based discussion group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Serious gaming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deo Ga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1295280" y="1752480"/>
            <a:ext cx="73152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Social gaming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Video games, computer games, Facebook game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Players interact with each other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cc66ff"/>
                </a:solidFill>
                <a:latin typeface="Tahoma"/>
              </a:rPr>
              <a:t>Attractive for advertiser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1295280" y="1752480"/>
            <a:ext cx="7315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Guitar Hero toda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Tin Pan Alley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—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Irving Berli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Rock and Rol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•  </a:t>
            </a:r>
            <a:r>
              <a:rPr b="0" lang="en-US" sz="4800" spc="-1" strike="noStrike">
                <a:solidFill>
                  <a:srgbClr val="ffff66"/>
                </a:solidFill>
                <a:latin typeface="Tahoma"/>
              </a:rPr>
              <a:t>MTV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oks and Magazi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1295280" y="1752480"/>
            <a:ext cx="73152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Still strong among young peopl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Entertainment and social behavioral gui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00ff80"/>
                </a:solidFill>
                <a:latin typeface="Tahoma"/>
              </a:rPr>
              <a:t>Paper, cell phones, etc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1"/>
          <p:cNvSpPr/>
          <p:nvPr/>
        </p:nvSpPr>
        <p:spPr>
          <a:xfrm>
            <a:off x="1219320" y="609480"/>
            <a:ext cx="72388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Entertainment Ethics and Law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1295280" y="1752480"/>
            <a:ext cx="7315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Stereotyp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Sex and viol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Censorship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The Hays Cod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800" spc="-1" strike="noStrike">
                <a:solidFill>
                  <a:srgbClr val="b7ecff"/>
                </a:solidFill>
                <a:latin typeface="Tahoma"/>
              </a:rPr>
              <a:t>Movie rating syste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1"/>
          <p:cNvSpPr/>
          <p:nvPr/>
        </p:nvSpPr>
        <p:spPr>
          <a:xfrm>
            <a:off x="1219320" y="609480"/>
            <a:ext cx="72388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Business of Entertainment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1295280" y="1752480"/>
            <a:ext cx="73152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Television ratings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Numerous jobs and roles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ff6fcf"/>
                </a:solidFill>
                <a:latin typeface="Tahoma"/>
              </a:rPr>
              <a:t>High costs 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1"/>
          <p:cNvSpPr/>
          <p:nvPr/>
        </p:nvSpPr>
        <p:spPr>
          <a:xfrm>
            <a:off x="1219320" y="609480"/>
            <a:ext cx="7238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Careers in Entertainment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295280" y="1752480"/>
            <a:ext cx="73152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Accounting, busines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Public relations, marketing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Computer programming, design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cc66ff"/>
                </a:solidFill>
                <a:latin typeface="Tahoma"/>
              </a:rPr>
              <a:t>Wide range of salarie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ussion Question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1295280" y="1752480"/>
            <a:ext cx="73152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ff80"/>
                </a:solidFill>
                <a:latin typeface="Tahoma"/>
              </a:rPr>
              <a:t>If you have ever met a celebrity, how did you feel? How did your perception of that person change?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1295280" y="1752480"/>
            <a:ext cx="731520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ff80"/>
                </a:solidFill>
                <a:latin typeface="Tahoma"/>
              </a:rPr>
              <a:t>Think about your favorite TV shows. Are they remakes of older shows? What influenced them?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8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990720" y="2133720"/>
            <a:ext cx="7924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6ffcc"/>
                </a:solidFill>
                <a:latin typeface="Tahoma"/>
              </a:rPr>
              <a:t>Then it was </a:t>
            </a:r>
            <a:r>
              <a:rPr b="0" i="1" lang="en-US" sz="6800" spc="-1" strike="noStrike">
                <a:solidFill>
                  <a:srgbClr val="66ffcc"/>
                </a:solidFill>
                <a:latin typeface="Tahoma"/>
              </a:rPr>
              <a:t>Call of Duty </a:t>
            </a:r>
            <a:r>
              <a:rPr b="0" lang="en-US" sz="6800" spc="-1" strike="noStrike">
                <a:solidFill>
                  <a:srgbClr val="66ffcc"/>
                </a:solidFill>
                <a:latin typeface="Tahoma"/>
              </a:rPr>
              <a:t>… then </a:t>
            </a:r>
            <a:r>
              <a:rPr b="0" i="1" lang="en-US" sz="6800" spc="-1" strike="noStrike">
                <a:solidFill>
                  <a:srgbClr val="66ffcc"/>
                </a:solidFill>
                <a:latin typeface="Tahoma"/>
              </a:rPr>
              <a:t>Angry Birds </a:t>
            </a:r>
            <a:r>
              <a:rPr b="0" lang="en-US" sz="6800" spc="-1" strike="noStrike">
                <a:solidFill>
                  <a:srgbClr val="66ffcc"/>
                </a:solidFill>
                <a:latin typeface="Tahoma"/>
              </a:rPr>
              <a:t>… then … what?</a:t>
            </a:r>
            <a:endParaRPr b="0" lang="en-US" sz="6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295280" y="1752480"/>
            <a:ext cx="73152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ff80"/>
                </a:solidFill>
                <a:latin typeface="Tahoma"/>
              </a:rPr>
              <a:t>Are you willing to play a video game numerous times? Why? Would you read a book that many times?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295280" y="1752480"/>
            <a:ext cx="73152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ff80"/>
                </a:solidFill>
                <a:latin typeface="Tahoma"/>
              </a:rPr>
              <a:t>Is this the </a:t>
            </a:r>
            <a:r>
              <a:rPr b="0" lang="ja-JP" sz="6200" spc="-1" strike="noStrike">
                <a:solidFill>
                  <a:srgbClr val="00ff80"/>
                </a:solidFill>
                <a:latin typeface="Tahoma"/>
              </a:rPr>
              <a:t>“</a:t>
            </a:r>
            <a:r>
              <a:rPr b="0" lang="en-US" sz="6200" spc="-1" strike="noStrike">
                <a:solidFill>
                  <a:srgbClr val="00ff80"/>
                </a:solidFill>
                <a:latin typeface="Tahoma"/>
              </a:rPr>
              <a:t>Golden Age</a:t>
            </a:r>
            <a:r>
              <a:rPr b="0" lang="ja-JP" sz="6200" spc="-1" strike="noStrike">
                <a:solidFill>
                  <a:srgbClr val="00ff80"/>
                </a:solidFill>
                <a:latin typeface="Tahoma"/>
              </a:rPr>
              <a:t>”</a:t>
            </a:r>
            <a:r>
              <a:rPr b="0" lang="en-US" sz="6200" spc="-1" strike="noStrike">
                <a:solidFill>
                  <a:srgbClr val="00ff80"/>
                </a:solidFill>
                <a:latin typeface="Tahoma"/>
              </a:rPr>
              <a:t> of Internet entertainment? Why or why not?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1295280" y="1752480"/>
            <a:ext cx="7315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80"/>
                </a:solidFill>
                <a:latin typeface="Tahoma"/>
              </a:rPr>
              <a:t>As the Internet shifts increasingly toward commercialization, what will be the impact on Internet entertainment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1295280" y="1752480"/>
            <a:ext cx="7315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ff80"/>
                </a:solidFill>
                <a:latin typeface="Tahoma"/>
              </a:rPr>
              <a:t>Do you play any online games with other people? How does that experience differ from playing games in real life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1"/>
          <p:cNvSpPr/>
          <p:nvPr/>
        </p:nvSpPr>
        <p:spPr>
          <a:xfrm>
            <a:off x="1219320" y="609480"/>
            <a:ext cx="72388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66"/>
                </a:solidFill>
                <a:latin typeface="Tahoma"/>
              </a:rPr>
              <a:t>Discussion Question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1295280" y="1752480"/>
            <a:ext cx="73152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80"/>
                </a:solidFill>
                <a:latin typeface="Tahoma"/>
              </a:rPr>
              <a:t>Many movies, video games, and other forms of entertainment focus on violence. Is that acceptable — or is it harmful to our society?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cff"/>
                </a:solidFill>
                <a:latin typeface="Tahoma"/>
              </a:rPr>
              <a:t>Entertai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Entertainmen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1295280" y="1752480"/>
            <a:ext cx="73152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Convergenc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Social video game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Pressure to make news and other information more entertaining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• </a:t>
            </a:r>
            <a:r>
              <a:rPr b="0" lang="en-US" sz="4200" spc="-1" strike="noStrike">
                <a:solidFill>
                  <a:srgbClr val="b7ecff"/>
                </a:solidFill>
                <a:latin typeface="Tahoma"/>
              </a:rPr>
              <a:t>Peer-to-peer (P2P)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1"/>
          <p:cNvSpPr/>
          <p:nvPr/>
        </p:nvSpPr>
        <p:spPr>
          <a:xfrm>
            <a:off x="1219320" y="60948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s of Entertai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295280" y="1752480"/>
            <a:ext cx="73152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Entertainment (obviously)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Cultural transmission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cc66ff"/>
                </a:solidFill>
                <a:latin typeface="Tahoma"/>
              </a:rPr>
              <a:t>Mobilization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 of Entertai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295280" y="1752480"/>
            <a:ext cx="73152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Developed after basic needs addressed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Banquets with live entertainmen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Play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Sport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Race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500" spc="-1" strike="noStrike">
                <a:solidFill>
                  <a:srgbClr val="ffff66"/>
                </a:solidFill>
                <a:latin typeface="Tahoma"/>
              </a:rPr>
              <a:t>Combat as entertainmen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istory of Entertai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295280" y="1752480"/>
            <a:ext cx="7315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Books (fiction, nonfi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ecorded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l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ele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•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Video ga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MMORP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295280" y="1752480"/>
            <a:ext cx="7315200" cy="38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Borrowed genres from radio and theater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ja-JP" sz="4700" spc="-1" strike="noStrike">
                <a:solidFill>
                  <a:srgbClr val="00ff80"/>
                </a:solidFill>
                <a:latin typeface="Tahoma"/>
              </a:rPr>
              <a:t>“</a:t>
            </a: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Golden age of television</a:t>
            </a:r>
            <a:r>
              <a:rPr b="0" lang="ja-JP" sz="4700" spc="-1" strike="noStrike">
                <a:solidFill>
                  <a:srgbClr val="00ff80"/>
                </a:solidFill>
                <a:latin typeface="Tahoma"/>
              </a:rPr>
              <a:t>”</a:t>
            </a:r>
            <a:r>
              <a:rPr b="0" lang="en-US" sz="4700" spc="-1" strike="noStrike">
                <a:solidFill>
                  <a:srgbClr val="00ff80"/>
                </a:solidFill>
                <a:latin typeface="Tahoma"/>
              </a:rPr>
              <a:t>: 1940s through 1960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1"/>
          <p:cNvSpPr/>
          <p:nvPr/>
        </p:nvSpPr>
        <p:spPr>
          <a:xfrm>
            <a:off x="1219320" y="60948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levi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282680" y="1782720"/>
            <a:ext cx="73152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The </a:t>
            </a:r>
            <a:r>
              <a:rPr b="0" i="1" lang="en-US" sz="4500" spc="-1" strike="noStrike">
                <a:solidFill>
                  <a:srgbClr val="00ff80"/>
                </a:solidFill>
                <a:latin typeface="Tahoma"/>
              </a:rPr>
              <a:t>Monday Night Football</a:t>
            </a: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 gambl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i="1" lang="en-US" sz="4500" spc="-1" strike="noStrike">
                <a:solidFill>
                  <a:srgbClr val="00ff80"/>
                </a:solidFill>
                <a:latin typeface="Tahoma"/>
              </a:rPr>
              <a:t>Root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• </a:t>
            </a:r>
            <a:r>
              <a:rPr b="0" i="1" lang="en-US" sz="4500" spc="-1" strike="noStrike">
                <a:solidFill>
                  <a:srgbClr val="00ff80"/>
                </a:solidFill>
                <a:latin typeface="Tahoma"/>
              </a:rPr>
              <a:t>All in the Family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— </a:t>
            </a:r>
            <a:r>
              <a:rPr b="0" lang="en-US" sz="4500" spc="-1" strike="noStrike">
                <a:solidFill>
                  <a:srgbClr val="00ff80"/>
                </a:solidFill>
                <a:latin typeface="Tahoma"/>
              </a:rPr>
              <a:t>Challenged social assumption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20:28:21Z</dcterms:created>
  <dc:creator>Shawn McIntosh</dc:creator>
  <dc:description/>
  <dc:language>en-US</dc:language>
  <cp:lastModifiedBy>Jason Genovese</cp:lastModifiedBy>
  <dcterms:modified xsi:type="dcterms:W3CDTF">2012-10-21T20:51:03Z</dcterms:modified>
  <cp:revision>108</cp:revision>
  <dc:subject/>
  <dc:title>Chapter 1</dc:title>
</cp:coreProperties>
</file>